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F69-B6F3-4C2A-B46A-F40C7015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AF4-6C83-4DD4-8F27-31278D51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1331C-878B-4558-B275-27433651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9A244-867E-4C4D-B38C-89B6B3D6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9EE60-0992-413C-80A7-FD53AC33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2C8A1-EFB8-49EC-BCBA-B300199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B7CAA-B9B3-4723-B340-8EA2DC8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34BDF-29E2-4DFF-A6FE-E6B086E4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132D6-E934-4C60-BAAB-634FBAD4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0FEF4-927A-4EB5-92C0-CA102ED5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07BB8-19FE-4C6C-B225-E5352D17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7B39A-B878-45AF-8E66-7F2007BA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7B9-89B9-4F93-B88A-22016FA8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6C9AE-8053-4E73-9455-EDAC53D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0A84-8351-425F-BD45-F2A25BB0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BF4EB-4720-420D-801C-0D85838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39520-E913-4620-B832-2CD5FEB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ACA26-82C8-41B5-B026-1BC3C12E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CB309-B9E7-4F39-B581-7E9DF01A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072E0-22BB-4DF1-AE0D-D7E1A0E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17879-8979-4B01-A97C-845FB54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85A04-57B6-403F-A000-BC8B7CC2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BD92F-D0EE-4448-8E4F-C21F6C53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B09-4795-437C-801A-3B1E80BC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8859F-637C-45DC-B3D4-F1283B12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6E19F-3E60-4B56-B269-952BFE43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1DF4F-89A7-4364-B607-24836C60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D8812-FDEB-4042-B497-09E2FC4C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1B95C-BAE4-4D2C-8CB9-E859BC9E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47F2C-4142-4088-ADCF-630BB21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AEF2C-893B-4BF9-8AB5-402048A3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DCD2C-D486-42CB-8844-D773DE6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FBCC1-B9EB-4BCB-9622-13EC580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58AA1-C22A-449D-9D38-5E71118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234A-64FC-4185-8707-647917FA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17971-98AC-4423-B8B9-44A6B732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43CD7-BF77-440B-B303-36F87370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88CA-7CEB-4304-8229-3345DB2C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024C0-6E57-4079-B31B-46B9F6D5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8EB57-2974-4999-BB56-78500D01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229F5-6EC6-45DC-824B-68F80365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310A6-ED9E-4DD1-88A1-32A1CB88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B098-E75B-40D1-841C-B9B8224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F9586-7AF5-4FB7-B8D6-E4195939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596A5-D93F-4D77-AAC7-9B45372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109-876B-4E76-9749-F4945F8A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527E1-2597-4CB5-B468-CF6BB34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E4ECE-4437-4A28-A279-333AF39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91FCC-0C3C-4229-8BD0-83F39BAC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CDC01-F427-44FD-B2AD-130B8499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C242E-9406-4F4E-8FCD-088A023A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98196-0B36-40A3-83CC-E2F87C90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C25E7-89EF-45AF-9E0C-859F863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CD446-0CFB-4629-AD64-84833551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8292A-C9AB-4919-AE5C-854F9C29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56A41-1BE8-4116-BD72-B482FC4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7306-275F-418C-9A8F-966AE788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D8935-0D37-4F65-B016-A15B5FF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69812-3D60-44C7-9B81-80DB413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6CBD7-4E88-4CE9-8B9F-EBF9A025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E86B3-FB25-43DB-8705-5E7A25F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AE2E1-ED80-458E-8BE1-72EDC67C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BE5CC-8CDA-4EDF-BBD9-947A723F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7052A-BBFE-41FD-9F8E-AE7DFB98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73ABE-8231-4D9A-B69E-19234338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0662A-C3CC-4BD4-BD02-B6792CD7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6BEAA-B4C2-411B-BF02-04BADE5D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4CCE-25B6-4F17-936C-BB78B747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9EFE4-19FE-47F8-A7B2-E85EF13B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C5C91-51E2-4661-8410-18D422B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6202F-2196-4D00-9822-68FE1F74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38CDE-B72E-481F-9C08-45F888A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80531-064A-4146-8F1A-DE54796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B48D6-B02E-468C-9C65-9668954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EA401-2FA3-4022-AD11-9F47272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674C8-24C1-4AB5-977F-86B37A9E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D6E52-41EA-4325-AA5C-D7DD8F59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EAB38-DCB8-491A-A5D2-4E93B323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213B-4F77-4F65-B8C5-D10F3F77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030CC-F6EA-469B-970F-A35D7A8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31396-AEC9-4E48-89F7-86556305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5409A-FAFE-406F-8546-C35B063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66AA2-39BE-454B-9E08-5C8CC3E9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54377-B269-44BD-9C36-455CE4C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EE57D-73E8-41BE-805A-E91E906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7E55B-B946-4DB2-8B61-B209C49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BED1B-EA16-4E41-812D-9E250FC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5B5AD-C432-4CEB-B818-7430118B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B75E4-EA1F-48D8-B9CB-AAAA62D7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1A3-D9B9-418D-9686-BE2C635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12D3F-AE94-44D7-81DE-5159700D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B1713-2697-488B-80B7-8BC8352A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9099E-5FC0-4B0E-A6E5-49B74BB1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38EC1-5BF9-4470-A9E4-5CA194F5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0F704-5C1C-4E11-9DBC-AC5F79EE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2CA53-C03B-4D52-A7F5-3676732B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AE634-A080-4878-8455-EF7A04F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4992D-4E2A-4C0C-A020-271A479C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89DD0-E7D1-4DC1-8C4D-BF578DD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4EBB8-7EE5-4FAB-B20E-F402A8A7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310-C195-4599-BDF2-6138D264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B65EA-0CA7-4D66-B662-DDC84FE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E39D0-763D-42DB-82E9-CF069570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3637B-F761-4EA9-9BA9-0A595FCD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8AD6B-B9C4-4187-B5B0-B2BFF1BC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0860C-309D-43E2-9C8E-7EDEC49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0A151-F067-44F3-BE32-11C185B7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98231-D689-41F2-A819-CFFB7481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E9A46-E428-490A-8AD9-7ABB596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9F940-BC22-411E-ABD6-B48A38B3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920B5-4B64-4A4D-BF0B-A9CC995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191-13AD-4A13-8D0F-C4D559F6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C464-4C94-41E0-8575-2C799F15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35443-492D-4DB4-90EF-A8788D8E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ABB54-A30E-4019-97D7-243B64E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632B9-B94B-4228-9EED-3DE61E1E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4C3A6-2AC3-4E88-AB28-04040DA8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947F7-6390-44BF-8364-8F707F28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00F79-9470-4ACC-9D7A-E9F9EA20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30414-9579-4385-B528-E42A3091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E7432-2BE2-4860-9950-1685BE6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15388-82A5-4877-BC54-351CC7C2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5810D-8CB8-4A9A-B519-27D79F7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6043-23AF-48E4-ADB9-63044BEB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1B732-4C17-4313-9C37-36865CE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E1D551-97AD-445C-AE50-1B9EA10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BCAC2-45A0-4771-A3AE-D0E7061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BB471-7668-4560-B0F9-20DFFE7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667E3-108A-4D30-B812-1BF8D3E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2308D-8BD1-42C7-ACB3-140B31DE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A2DF6-919F-4ABE-A26A-E71A3C5B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39951-6A0C-4F5A-96DC-0DC8C53C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A0B17-4548-41BB-B1AC-F590B11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9C589-C31B-47D0-91AC-5D57CB43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17CD-6476-4666-8BB4-DE91F2AE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6240A-D4C3-421E-BBBF-372D1AE3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9CC14-8600-4E69-AEC0-554F071C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3BFB2-6F1E-4567-82DF-D0EF678D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CC903-4B5E-4B13-8083-C6E0392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E08FF-9F67-41A7-90D0-54824EA0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54A59-E2BD-4B91-BA2E-BD64664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639E7-524F-44AF-B479-C7F26A0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1A7BC-41BF-490C-9D75-1CFE6D17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BBA1F-40EF-4ECC-AC90-410CAD73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21A94-BA7D-4CB0-826A-015CE8F9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E56-B107-4778-87D9-EA067FA2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6C3C4-4990-41B2-A18B-00C3F42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524F2-3D2A-41B1-891E-150B530F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D4C43-D0F6-4CDB-932F-C338CC87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63FA6-987D-4A95-92EF-834F770F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CE77C-4719-4A37-8B9E-DCD95A5F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5EAF7-06D1-4970-B102-94A12FA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CB310-7E96-411B-BFA6-D94323C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7FB5C-5D37-4E45-BC3B-D89433F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3CB18-22E8-4684-96DB-6BB6857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56600-6355-4F8E-89DD-FB428280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0061-4771-4816-BF4B-8593E73A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8F347-11BE-4B47-9D51-119469B9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696F3A-9A9E-4FAC-8F35-476513AA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74516-181F-4859-BC76-D67B33C3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13F60-C613-4061-82EC-0350135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471830-4BBD-48CF-8B66-B37BE989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E19BD-15B2-482B-B1DA-E5FC39D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B36DA-C298-4B5B-9A23-3FAAC09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754C7-7083-4B95-B1EE-FB56A078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078625-485C-4389-A579-6C27B46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861ACB-BB62-4359-B918-68EA92B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76EE-0661-4216-BFD2-9836BCEC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FD9D6-7729-4C7A-99C3-1B2B6B70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61914-0A9A-4F66-969B-7E065AF8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1323E-FF13-4C9C-B479-5DD6D37C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B3049-C432-4917-82F5-223D5283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522DCB-E957-4B2A-AA77-27CB79B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186EC-0CFA-42E6-859D-33035C9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6C0E9C-7EAE-4DB5-8939-8F8709B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4B4BE2-853E-4C81-B322-D0E00165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6B9EF-7C1C-4561-BD47-E6966826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BEF63-C26E-4BBF-8EE0-53F2074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0C82-5E35-4AFC-A6BA-1606A81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C44992-7160-4677-89E2-955B08B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D8395-592E-4256-9FAA-DF3792A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2D7FD-B697-402F-9E2E-A9C01BF4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39153-C93F-47EE-9EC3-B70326B5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1E6184-EDBA-4414-B31D-A950D5FC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BD3C7E-5C7C-46F4-A7F2-EBE5AEEF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D2B413-EE35-4EE4-899A-530B7F1B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6E7F71-F707-4D1E-9616-497B7FB3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25B0E-6F1B-42F0-B643-83F36B0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ED4652-02E0-493D-B81E-40C10E4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1BC0-9514-48EB-81C4-8543DD2C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24BDA-5FB8-4CAE-B83B-B9B71D35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BD276C-B6BE-4E5D-B507-1919511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3E6C6C-6251-4ED8-B9C8-B66E350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DA9420-8400-4B01-A179-17D08F79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53EA9-78E8-4FD9-ADC3-B532ABE2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0761DA-3D84-4D09-826F-754AD9A3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73B91-092A-44CE-BD94-81AC939B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E40C1-6227-4934-B79B-9E4F8708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D2FA2C-383D-435C-8EEB-D009321C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AE755C-6852-4D75-8A4C-4839A080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E244-E4B1-4143-8131-7F82217C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5F1E2B-41CD-4E4A-A88F-CA6191E1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1AF6B2-C571-446E-A190-9BA2CBFA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0AB80E-8B96-442A-8025-C5E8B0F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DD62B3-6F9E-4911-872F-FB50887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630C93-A9CB-432F-B879-53EB913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86E9A4-0F7C-496D-850B-ECAA2D48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95F3AB-5392-4C70-9077-13AF8BC0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082F9E-AA7A-49AE-A215-99DC454E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711E4D-707D-4EAA-AC3D-02C1ABDD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10EAA4-CBFD-40BD-B894-857DF4DC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73DA-7A7C-488B-AABD-55B7BD45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885CA-562E-46A5-B823-D9EEA9A0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82E1D0-C10E-47CB-A1C2-6E9D819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29A7D4-7716-43FF-A08C-9841F3F9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7088E6-242B-4008-AC13-71D8EBB6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A00C37-A680-44EF-BB35-A39C550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F4F5BE-9F92-470A-9BDD-AD49BDB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20B036-0F8D-45E3-9C31-CFB0A5A5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0FC324-4833-4A7B-AB52-514A372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898F6E-6BF0-4EDA-88BB-3ABF14A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EFA109-5D6A-4A57-A35D-3EA83E98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B98-141B-4333-A7D8-730E4A15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9D52-9172-4DED-9D07-390A859B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341265-12FC-4905-9FA2-B3006CC6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831551-06ED-4A3A-BA45-6F303E61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3C4D81-6A62-459F-9063-C92DBB6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DBAA94-6259-4F7E-B8FE-733B0D6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877391-4D99-4A89-80DA-E2256F6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D5361E-4F7E-492D-BE6D-6158F44C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A5EBF-9100-48AA-A9E7-E5AB838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D09497-D440-49B0-88A0-92FA9D24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8E8125-7944-445E-B964-AC97691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D24AB7-4EF0-48F0-83EC-E11DCF3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3883-A67A-4794-9336-9817843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8E1096-4A48-43B5-9B4E-A4A30249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139C6C-4FF9-4652-B26A-8D13554E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459096-FD8C-4073-B0CC-7F573D3B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390C2C-BCF8-48E4-82C7-1C2C989D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591BD4-43FD-4B25-866E-C822416F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964CEE-66B1-4E8A-B23C-E030A632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1AC14B-658A-4374-B379-59D167D8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B2F1D9-9E1B-4B00-AEFD-44CB7E6E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617A00-5224-4424-92DC-051DAA4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F88D12-C358-4283-AB8C-258E4ED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DDFE-A955-4C11-8DEE-D17DCBFB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731AED-491B-4F47-8BFB-C44AE04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BAE10B-6903-46A9-B978-7C241D7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4A4A9E-78F6-4824-9CE3-9C950026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730776-8FF4-4AC3-A76B-A1C888C9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D7CB87-867E-4E95-91C9-D5AD8F5F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648A58-364E-431B-ADD5-05263896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6B73EE-69BA-42A8-9B52-B1B36D6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CD6BCE-687E-4444-9CF6-F0CE32BE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1A9963-0580-4B6D-9102-FFEE5F8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1EF569-5CF3-4A07-BA0F-79FA5BE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8A96-03B9-4176-BD40-30FE40F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6B3A1B-B0E5-4FC0-B90A-793C4F96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5645C4-7457-4001-BA25-4F41E311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FE67D4-7694-463B-BF25-FDEDE51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8DDF8C-2BED-4B02-87DD-613B66C8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FA7809-5F54-468F-8801-00E46C16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42B91C-69AA-4902-A048-1F93005B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5C4E18-D814-4A73-A86C-BD91DAF6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68966F-C3B2-4B97-8BB3-610101C5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91DFB0-0B68-478B-BB1D-90501D0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0FE42D-C612-40E1-8432-AEBACCD5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6987-8069-4B8C-9498-6C16C44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31030A-DFED-413F-8E55-B1EF7BA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D629BC-9672-4FAD-B6C2-59A1D0C8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A06C00-C80E-4BDF-AAA7-531B1CB6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AB1F54-88F3-467F-8EA7-6262E14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3EEAE5-9567-42AA-8B03-6B9E167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D2F148-3E8F-41B0-83ED-7B820CF2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26C8FD-8C6F-4F0E-A000-744F2672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3E79E3-D5AA-46F2-A887-EC58CFD8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C5315E-2C87-4658-90AB-3FAD5628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6601AA-5201-43BD-AF20-E431E53A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2520-0915-4127-BDCB-FD3D3095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317C32-F61A-4563-AB6B-E68DAF8D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711FE2-996C-4B10-AEBC-BFAB8328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05F2C8-19F7-4384-A287-CFC21D6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ADD783-136E-4F56-85CF-54EE0D8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51A35E-A2F4-4525-8A6F-D1486176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9FED33-BEB5-446A-A7E6-274508B2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0663AA-472B-4246-ADAC-B1F5EAF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411831-36B1-4AB8-993E-D45D0D0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6F8F38-35C7-4E44-A6C5-A6D5DA0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01D484-1E1D-4FFA-98E2-CAD43B0A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3639-4797-4B58-A3C7-D3922190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84BBB1-92E5-4EBB-BE27-C26BD0DA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836531-9D07-4BA1-AC93-AFDCC2D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7A3829-DEFA-4CAD-9CC0-5D01CA1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262619-CB10-4A87-B1ED-AC0DA89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43F45F-8A28-499C-98CA-8CB2D6CD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49CC71-CB0B-4024-87A5-F51004F2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FE5FFA-AB5B-4CA4-9096-174B057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D69445-70C9-4F8C-AEF2-9B01683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5E8BFF-D2B8-45A5-88DD-6927BCC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A31BF0-BDC6-422B-951E-535FEC3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DEB9-78AA-47E2-888E-A256F719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86F214-EB48-42B7-AD9F-7665B824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63CD91-FF8D-46EA-BEF2-830A8C07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DC678A-0B46-4C12-A69E-DA491DB4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45A55-62EC-4DFF-865C-96964E2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43BA-3D17-4EB9-AFA4-68436AB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0AF-F9CC-4F90-AC5A-4E349FC2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8316-7E18-4B31-9468-AD0961A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16EB-0319-45A0-A380-EBE66176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B96C4-3A9A-48B8-8117-112695A1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AC69-1CE9-433C-A725-AA21751B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8171-5D70-4B60-ACDB-8A73F9E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7F5E-6A5D-4D30-A4CB-2628697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43AB-DAEC-4A03-87EC-CF0600C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6936-B958-4F0E-B709-C1D27916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A58E-8566-4CA1-96E0-D1B01BC4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E01C-BEFC-4D5F-ADAD-FD595DC1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29D-57E8-4257-B75A-F7AE66B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80159-1C93-4312-BF9F-165E96B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4D97-4A98-4B7A-8881-A2924F5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0B66-BCA6-4CBA-9428-E6934CA1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CBB4-EE1E-4053-8DA0-AB6BA78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44B62-D19E-43E5-9C54-092CC347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40DC9-9F63-4CB7-BD4F-7B510665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86983-AAC7-4455-A2C1-6C935AE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52718-D25D-4AD3-B5C4-FF47CB66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16F6-2B7E-4851-B8AF-90944B72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59D8-2129-4CB4-8706-2DE74D92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997-B2A7-47D1-A1A4-DF79503B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06510-2A72-4CFC-9D7D-EDB96EFD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DEC7-F3F0-4C33-9B58-BDCF68D2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43BB7-49A7-4775-B71F-641C91CE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AEC3-B10F-45E2-B995-8CFE95F3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FA36-7801-4B32-9E15-AD34CA2C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9AB1-D2EB-462F-8905-B7C781B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4598-3628-4E8B-937E-E7A9CFD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0F80A-73CD-4519-8632-578DF0F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5410C-52BC-4036-AB9A-BDC677A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68D4F-8628-4ACB-B926-09FD6A1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640-0DBC-4F53-8AC5-BC4749B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2A4A8-FA2F-4D88-8DFC-BDECB3A2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15EBF-1B97-494B-A9BE-A53F7A67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40CC2-9007-412D-BDEE-D4A8DDD6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20BA1-0D50-4899-B3A6-FE9CAB63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FF4D6-24BD-4B8A-93CE-28253DD8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6C30-F8D3-4704-AADC-750A4E2C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2B63B-E1DE-49A9-8228-E5CA3405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73908-E6F5-417F-AFC9-BAC0225A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B2CA7-5DBA-48FA-BA98-CB74D3E3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97020-4CE0-490B-BD6A-8525B123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5C9-1DD7-4C54-8579-9457179B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F9E5C-5202-4411-A58B-3A281C5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DE7EC-7BE9-4271-9328-DBE9C2F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10BD-762C-44A0-9DC9-6340FA94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6BA13-6A40-467F-AFD3-4B37D47C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A7AC3-445D-4B32-9164-14D803C8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15720-A991-4684-B2BA-F60204B9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392B-3E0A-475E-9D46-0322524B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7E7B8-FDA2-48C1-B608-D0D46E23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507E2-2902-463F-97F0-4E61B2AE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5F4FA-49E1-433B-9DFE-9B1D2934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E88-82E3-416C-B466-021210BD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C553-B319-4046-8775-2A30524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66660-1D02-4134-999B-D9975D5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C866-76A0-4AA8-90A3-6356093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A7A3-06DD-4E2D-8C2F-54F7DF2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44EE3-7CD2-4BD6-AE12-C0C5BF1A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40B11-74B4-4EC1-B475-3014751C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6442-8863-433C-AF86-C161456B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1D0F2-B5F3-4FD9-B51E-0F6B2D21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BFDE5-5F4A-462C-A047-D7C964BF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99F19-5D48-407B-9B1E-B9BC65E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CD5-9FB8-4AF2-B1B4-0AE0025E6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71E6-F167-4F39-B10E-9A7D3E6F7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A62-6BB9-410F-A61C-BE1572DB2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2A51-602E-4D81-A788-F37EA250A4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D294-9ECA-431C-8809-8601D9F3E9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1AF6-0B12-45F3-9E58-5DDA3DB1A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4FE7-FD3C-435C-BFBE-E576E3D21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8F3-ECD2-4AA0-B259-A473132BE6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EF69-F74F-4C8B-BF8B-01041FD69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AFC9-71A1-4814-9860-CAEBE600B5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921D-7EAB-463E-AEAE-C9FC9106A8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6FE9-C800-4F17-B871-872A63D21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53F0-C2FB-4288-A779-94B0B8E6D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851C-8BEE-4F27-B365-CB64722DBF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D65-FA99-45E1-BB5C-A36C118B9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B5B7-2631-48AE-8CF6-809BABF67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292-CA93-48A0-83CE-0CC8C3350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0FC3-2C8C-4C89-8350-E4A4BA242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7EE5-BCAB-4BB1-9CFB-62804E6F3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986-2319-47B2-A650-4D4F416683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E5BD-888E-4240-8C53-BEA69D8A1C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A05-0C84-4967-86D7-03B52A08F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6029-B245-4267-AD17-DCD26CEAE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87AF-9628-4BA3-865F-A63956C241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309-0BD3-4673-8CAF-267CD5A90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6C71-CFC4-4047-B37B-28CE0E4E1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EC3E-1544-4650-A1BA-32E3006A5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BC17-8FE9-4794-93A0-955E651E0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CB88-AEEF-41D2-9133-8407738E66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62B2-FC85-46CB-AF75-6F3F9BD170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FA7-AEC7-47AD-B639-BFC1077B5E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72E3-DC71-4A38-978E-E87B6334A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56B-608E-49EC-AF57-6662F62D09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871C-E5AE-4B15-8832-F629412F3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0155-E24C-4C72-8C42-0529DE99A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1A0D-C753-4CB1-8D4B-6B789CFCB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B796-A2BD-498B-917A-C38B0A74EA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AB2-844F-470E-B5EC-B9C9161765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1F9B-D701-4561-8206-174F6270E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BA8B-B451-45E3-9D20-804741727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76B5-388A-4E9B-8246-BBE97F3DB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0D0-9B34-4C79-B1A9-7FE65C8B9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B76D-45BF-492C-AB5D-6E520124C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58C5-56DF-4AD8-A0BE-9407056918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822C-87BD-4515-AD31-5A99D60414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BE6C-1029-4F98-B8C4-741516E6C2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D671-E552-48B4-9DB3-15EA32648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635-3ACF-4EFF-8762-2004D4028F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91F6-0B81-4FCA-B003-742C5663F7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C1A-36AE-4752-BE78-29FA7960B2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7320" y="2247840"/>
            <a:ext cx="8829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6737" descr=""/>
          <p:cNvPicPr/>
          <p:nvPr/>
        </p:nvPicPr>
        <p:blipFill>
          <a:blip r:embed="rId1"/>
          <a:stretch/>
        </p:blipFill>
        <p:spPr>
          <a:xfrm>
            <a:off x="138240" y="976320"/>
            <a:ext cx="8867520" cy="49053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6738"/>
          <p:cNvSpPr/>
          <p:nvPr/>
        </p:nvSpPr>
        <p:spPr>
          <a:xfrm>
            <a:off x="8244000" y="1557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5713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8772480" cy="46656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15714" descr=""/>
          <p:cNvPicPr/>
          <p:nvPr/>
        </p:nvPicPr>
        <p:blipFill>
          <a:blip r:embed="rId2"/>
          <a:stretch/>
        </p:blipFill>
        <p:spPr>
          <a:xfrm>
            <a:off x="352440" y="1833480"/>
            <a:ext cx="8439120" cy="31910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5715"/>
          <p:cNvSpPr/>
          <p:nvPr/>
        </p:nvSpPr>
        <p:spPr>
          <a:xfrm>
            <a:off x="8244000" y="126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4689" descr=""/>
          <p:cNvPicPr/>
          <p:nvPr/>
        </p:nvPicPr>
        <p:blipFill>
          <a:blip r:embed="rId1"/>
          <a:stretch/>
        </p:blipFill>
        <p:spPr>
          <a:xfrm>
            <a:off x="147600" y="2176560"/>
            <a:ext cx="8848800" cy="25048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4690"/>
          <p:cNvSpPr/>
          <p:nvPr/>
        </p:nvSpPr>
        <p:spPr>
          <a:xfrm>
            <a:off x="8244000" y="2133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3665" descr=""/>
          <p:cNvPicPr/>
          <p:nvPr/>
        </p:nvPicPr>
        <p:blipFill>
          <a:blip r:embed="rId1"/>
          <a:stretch/>
        </p:blipFill>
        <p:spPr>
          <a:xfrm>
            <a:off x="85680" y="1643040"/>
            <a:ext cx="8972640" cy="35719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3666"/>
          <p:cNvSpPr/>
          <p:nvPr/>
        </p:nvSpPr>
        <p:spPr>
          <a:xfrm>
            <a:off x="8172360" y="1700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2641" descr=""/>
          <p:cNvPicPr/>
          <p:nvPr/>
        </p:nvPicPr>
        <p:blipFill>
          <a:blip r:embed="rId1"/>
          <a:stretch/>
        </p:blipFill>
        <p:spPr>
          <a:xfrm>
            <a:off x="128520" y="876240"/>
            <a:ext cx="8886960" cy="51055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2642"/>
          <p:cNvSpPr/>
          <p:nvPr/>
        </p:nvSpPr>
        <p:spPr>
          <a:xfrm>
            <a:off x="8244000" y="907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1617" descr=""/>
          <p:cNvPicPr/>
          <p:nvPr/>
        </p:nvPicPr>
        <p:blipFill>
          <a:blip r:embed="rId1"/>
          <a:stretch/>
        </p:blipFill>
        <p:spPr>
          <a:xfrm>
            <a:off x="190440" y="1109520"/>
            <a:ext cx="8763120" cy="46389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1618"/>
          <p:cNvSpPr/>
          <p:nvPr/>
        </p:nvSpPr>
        <p:spPr>
          <a:xfrm>
            <a:off x="8317080" y="1197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0593" descr=""/>
          <p:cNvPicPr/>
          <p:nvPr/>
        </p:nvPicPr>
        <p:blipFill>
          <a:blip r:embed="rId1"/>
          <a:stretch/>
        </p:blipFill>
        <p:spPr>
          <a:xfrm>
            <a:off x="757080" y="1690560"/>
            <a:ext cx="7629840" cy="34768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0594"/>
          <p:cNvSpPr/>
          <p:nvPr/>
        </p:nvSpPr>
        <p:spPr>
          <a:xfrm>
            <a:off x="1974960" y="4640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0595"/>
          <p:cNvSpPr/>
          <p:nvPr/>
        </p:nvSpPr>
        <p:spPr>
          <a:xfrm>
            <a:off x="3651120" y="4678200"/>
            <a:ext cx="633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0596"/>
          <p:cNvSpPr/>
          <p:nvPr/>
        </p:nvSpPr>
        <p:spPr>
          <a:xfrm>
            <a:off x="5708520" y="4525920"/>
            <a:ext cx="7477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09569" descr=""/>
          <p:cNvPicPr/>
          <p:nvPr/>
        </p:nvPicPr>
        <p:blipFill>
          <a:blip r:embed="rId1"/>
          <a:stretch/>
        </p:blipFill>
        <p:spPr>
          <a:xfrm>
            <a:off x="104760" y="692280"/>
            <a:ext cx="9039240" cy="581004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09570"/>
          <p:cNvSpPr/>
          <p:nvPr/>
        </p:nvSpPr>
        <p:spPr>
          <a:xfrm>
            <a:off x="2558880" y="38019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09571"/>
          <p:cNvSpPr/>
          <p:nvPr/>
        </p:nvSpPr>
        <p:spPr>
          <a:xfrm>
            <a:off x="6300720" y="4282920"/>
            <a:ext cx="858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09572"/>
          <p:cNvSpPr/>
          <p:nvPr/>
        </p:nvSpPr>
        <p:spPr>
          <a:xfrm>
            <a:off x="5734080" y="5135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09573"/>
          <p:cNvSpPr/>
          <p:nvPr/>
        </p:nvSpPr>
        <p:spPr>
          <a:xfrm>
            <a:off x="1581120" y="6062760"/>
            <a:ext cx="1622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08545" descr=""/>
          <p:cNvPicPr/>
          <p:nvPr/>
        </p:nvPicPr>
        <p:blipFill>
          <a:blip r:embed="rId1"/>
          <a:stretch/>
        </p:blipFill>
        <p:spPr>
          <a:xfrm>
            <a:off x="152280" y="757080"/>
            <a:ext cx="8839440" cy="534384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08546"/>
          <p:cNvSpPr/>
          <p:nvPr/>
        </p:nvSpPr>
        <p:spPr>
          <a:xfrm>
            <a:off x="5251320" y="4183200"/>
            <a:ext cx="30657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08547"/>
          <p:cNvSpPr/>
          <p:nvPr/>
        </p:nvSpPr>
        <p:spPr>
          <a:xfrm>
            <a:off x="1327320" y="5199120"/>
            <a:ext cx="796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08548"/>
          <p:cNvSpPr/>
          <p:nvPr/>
        </p:nvSpPr>
        <p:spPr>
          <a:xfrm>
            <a:off x="5365800" y="5618160"/>
            <a:ext cx="2806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07521" descr=""/>
          <p:cNvPicPr/>
          <p:nvPr/>
        </p:nvPicPr>
        <p:blipFill>
          <a:blip r:embed="rId1"/>
          <a:stretch/>
        </p:blipFill>
        <p:spPr>
          <a:xfrm>
            <a:off x="361800" y="2562120"/>
            <a:ext cx="8420400" cy="173376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107522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990360" cy="41904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07523"/>
          <p:cNvSpPr/>
          <p:nvPr/>
        </p:nvSpPr>
        <p:spPr>
          <a:xfrm>
            <a:off x="2673360" y="2494080"/>
            <a:ext cx="6075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07524"/>
          <p:cNvSpPr/>
          <p:nvPr/>
        </p:nvSpPr>
        <p:spPr>
          <a:xfrm>
            <a:off x="971640" y="2938320"/>
            <a:ext cx="230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7525"/>
          <p:cNvSpPr/>
          <p:nvPr/>
        </p:nvSpPr>
        <p:spPr>
          <a:xfrm>
            <a:off x="3892680" y="3827520"/>
            <a:ext cx="492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07526"/>
          <p:cNvSpPr/>
          <p:nvPr/>
        </p:nvSpPr>
        <p:spPr>
          <a:xfrm>
            <a:off x="1001880" y="4390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42840" y="728640"/>
            <a:ext cx="9058320" cy="54007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172360" y="3573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06497" descr=""/>
          <p:cNvPicPr/>
          <p:nvPr/>
        </p:nvPicPr>
        <p:blipFill>
          <a:blip r:embed="rId1"/>
          <a:stretch/>
        </p:blipFill>
        <p:spPr>
          <a:xfrm>
            <a:off x="171360" y="1038240"/>
            <a:ext cx="8801280" cy="478152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06498"/>
          <p:cNvSpPr/>
          <p:nvPr/>
        </p:nvSpPr>
        <p:spPr>
          <a:xfrm>
            <a:off x="3346560" y="3002040"/>
            <a:ext cx="129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06499"/>
          <p:cNvSpPr/>
          <p:nvPr/>
        </p:nvSpPr>
        <p:spPr>
          <a:xfrm>
            <a:off x="6737400" y="3446640"/>
            <a:ext cx="222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06500"/>
          <p:cNvSpPr/>
          <p:nvPr/>
        </p:nvSpPr>
        <p:spPr>
          <a:xfrm>
            <a:off x="1098720" y="3890880"/>
            <a:ext cx="613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06501"/>
          <p:cNvSpPr/>
          <p:nvPr/>
        </p:nvSpPr>
        <p:spPr>
          <a:xfrm>
            <a:off x="6280200" y="47671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6502"/>
          <p:cNvSpPr/>
          <p:nvPr/>
        </p:nvSpPr>
        <p:spPr>
          <a:xfrm>
            <a:off x="3371760" y="5275440"/>
            <a:ext cx="3432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25953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58520" cy="603864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25954"/>
          <p:cNvSpPr/>
          <p:nvPr/>
        </p:nvSpPr>
        <p:spPr>
          <a:xfrm>
            <a:off x="2800440" y="4183200"/>
            <a:ext cx="1050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25955"/>
          <p:cNvSpPr/>
          <p:nvPr/>
        </p:nvSpPr>
        <p:spPr>
          <a:xfrm>
            <a:off x="4387680" y="4678200"/>
            <a:ext cx="2345040" cy="5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25956"/>
          <p:cNvSpPr/>
          <p:nvPr/>
        </p:nvSpPr>
        <p:spPr>
          <a:xfrm>
            <a:off x="3308400" y="5249880"/>
            <a:ext cx="10508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25957"/>
          <p:cNvSpPr/>
          <p:nvPr/>
        </p:nvSpPr>
        <p:spPr>
          <a:xfrm>
            <a:off x="3321000" y="6138720"/>
            <a:ext cx="24750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2697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2200" cy="563868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26978"/>
          <p:cNvSpPr/>
          <p:nvPr/>
        </p:nvSpPr>
        <p:spPr>
          <a:xfrm>
            <a:off x="4857840" y="5084640"/>
            <a:ext cx="3674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28001" descr=""/>
          <p:cNvPicPr/>
          <p:nvPr/>
        </p:nvPicPr>
        <p:blipFill>
          <a:blip r:embed="rId1"/>
          <a:stretch/>
        </p:blipFill>
        <p:spPr>
          <a:xfrm>
            <a:off x="1790640" y="2224080"/>
            <a:ext cx="5562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2902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569628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29026"/>
          <p:cNvSpPr/>
          <p:nvPr/>
        </p:nvSpPr>
        <p:spPr>
          <a:xfrm>
            <a:off x="2114640" y="728640"/>
            <a:ext cx="202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29027"/>
          <p:cNvSpPr/>
          <p:nvPr/>
        </p:nvSpPr>
        <p:spPr>
          <a:xfrm>
            <a:off x="1327320" y="3801960"/>
            <a:ext cx="3389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29028"/>
          <p:cNvSpPr/>
          <p:nvPr/>
        </p:nvSpPr>
        <p:spPr>
          <a:xfrm>
            <a:off x="1022400" y="4246560"/>
            <a:ext cx="3693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29029"/>
          <p:cNvSpPr/>
          <p:nvPr/>
        </p:nvSpPr>
        <p:spPr>
          <a:xfrm>
            <a:off x="1022400" y="46782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29030"/>
          <p:cNvSpPr/>
          <p:nvPr/>
        </p:nvSpPr>
        <p:spPr>
          <a:xfrm>
            <a:off x="8172360" y="42339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29031"/>
          <p:cNvSpPr/>
          <p:nvPr/>
        </p:nvSpPr>
        <p:spPr>
          <a:xfrm>
            <a:off x="4794120" y="4691160"/>
            <a:ext cx="21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29032"/>
          <p:cNvSpPr/>
          <p:nvPr/>
        </p:nvSpPr>
        <p:spPr>
          <a:xfrm>
            <a:off x="6902280" y="5440320"/>
            <a:ext cx="215424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29033"/>
          <p:cNvSpPr/>
          <p:nvPr/>
        </p:nvSpPr>
        <p:spPr>
          <a:xfrm>
            <a:off x="831960" y="5973840"/>
            <a:ext cx="56116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30049" descr=""/>
          <p:cNvPicPr/>
          <p:nvPr/>
        </p:nvPicPr>
        <p:blipFill>
          <a:blip r:embed="rId1"/>
          <a:stretch/>
        </p:blipFill>
        <p:spPr>
          <a:xfrm>
            <a:off x="399960" y="1695600"/>
            <a:ext cx="8344080" cy="346680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30050"/>
          <p:cNvSpPr/>
          <p:nvPr/>
        </p:nvSpPr>
        <p:spPr>
          <a:xfrm>
            <a:off x="5987880" y="2544840"/>
            <a:ext cx="254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30051"/>
          <p:cNvSpPr/>
          <p:nvPr/>
        </p:nvSpPr>
        <p:spPr>
          <a:xfrm>
            <a:off x="895320" y="2989440"/>
            <a:ext cx="2668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30052"/>
          <p:cNvSpPr/>
          <p:nvPr/>
        </p:nvSpPr>
        <p:spPr>
          <a:xfrm>
            <a:off x="1042920" y="4724280"/>
            <a:ext cx="3740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31073" descr=""/>
          <p:cNvPicPr/>
          <p:nvPr/>
        </p:nvPicPr>
        <p:blipFill>
          <a:blip r:embed="rId1"/>
          <a:stretch/>
        </p:blipFill>
        <p:spPr>
          <a:xfrm>
            <a:off x="204840" y="1576440"/>
            <a:ext cx="8734320" cy="3705120"/>
          </a:xfrm>
          <a:prstGeom prst="rect">
            <a:avLst/>
          </a:prstGeom>
          <a:ln w="0">
            <a:noFill/>
          </a:ln>
        </p:spPr>
      </p:pic>
      <p:sp>
        <p:nvSpPr>
          <p:cNvPr id="1510" name="矩形 131074"/>
          <p:cNvSpPr/>
          <p:nvPr/>
        </p:nvSpPr>
        <p:spPr>
          <a:xfrm>
            <a:off x="4299120" y="4411800"/>
            <a:ext cx="704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1" name="图片 132097" descr=""/>
          <p:cNvPicPr/>
          <p:nvPr/>
        </p:nvPicPr>
        <p:blipFill>
          <a:blip r:embed="rId1"/>
          <a:stretch/>
        </p:blipFill>
        <p:spPr>
          <a:xfrm>
            <a:off x="566640" y="1371600"/>
            <a:ext cx="8010720" cy="4114800"/>
          </a:xfrm>
          <a:prstGeom prst="rect">
            <a:avLst/>
          </a:prstGeom>
          <a:ln w="0">
            <a:noFill/>
          </a:ln>
        </p:spPr>
      </p:pic>
      <p:sp>
        <p:nvSpPr>
          <p:cNvPr id="1512" name="矩形 132098"/>
          <p:cNvSpPr/>
          <p:nvPr/>
        </p:nvSpPr>
        <p:spPr>
          <a:xfrm>
            <a:off x="590400" y="133812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32099"/>
          <p:cNvSpPr/>
          <p:nvPr/>
        </p:nvSpPr>
        <p:spPr>
          <a:xfrm>
            <a:off x="438120" y="182088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32100"/>
          <p:cNvSpPr/>
          <p:nvPr/>
        </p:nvSpPr>
        <p:spPr>
          <a:xfrm>
            <a:off x="577800" y="2278080"/>
            <a:ext cx="79423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32101"/>
          <p:cNvSpPr/>
          <p:nvPr/>
        </p:nvSpPr>
        <p:spPr>
          <a:xfrm>
            <a:off x="387360" y="3129120"/>
            <a:ext cx="794232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32102"/>
          <p:cNvSpPr/>
          <p:nvPr/>
        </p:nvSpPr>
        <p:spPr>
          <a:xfrm>
            <a:off x="590400" y="382752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32103"/>
          <p:cNvSpPr/>
          <p:nvPr/>
        </p:nvSpPr>
        <p:spPr>
          <a:xfrm>
            <a:off x="679320" y="4348080"/>
            <a:ext cx="794232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32104"/>
          <p:cNvSpPr/>
          <p:nvPr/>
        </p:nvSpPr>
        <p:spPr>
          <a:xfrm>
            <a:off x="603360" y="503388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147600" y="1814400"/>
            <a:ext cx="8848800" cy="32292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8244000" y="2421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204840" y="1990800"/>
            <a:ext cx="8734320" cy="287640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8317080" y="2060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1857" descr=""/>
          <p:cNvPicPr/>
          <p:nvPr/>
        </p:nvPicPr>
        <p:blipFill>
          <a:blip r:embed="rId1"/>
          <a:stretch/>
        </p:blipFill>
        <p:spPr>
          <a:xfrm>
            <a:off x="181080" y="1419120"/>
            <a:ext cx="8781840" cy="401976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1858"/>
          <p:cNvSpPr/>
          <p:nvPr/>
        </p:nvSpPr>
        <p:spPr>
          <a:xfrm>
            <a:off x="8317080" y="1484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083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34320" cy="409320"/>
          </a:xfrm>
          <a:prstGeom prst="rect">
            <a:avLst/>
          </a:prstGeom>
          <a:ln w="0">
            <a:noFill/>
          </a:ln>
        </p:spPr>
      </p:pic>
      <p:pic>
        <p:nvPicPr>
          <p:cNvPr id="1442" name="图片 120834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648640" cy="323856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0835"/>
          <p:cNvSpPr/>
          <p:nvPr/>
        </p:nvSpPr>
        <p:spPr>
          <a:xfrm>
            <a:off x="8317080" y="2205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19809" descr=""/>
          <p:cNvPicPr/>
          <p:nvPr/>
        </p:nvPicPr>
        <p:blipFill>
          <a:blip r:embed="rId1"/>
          <a:stretch/>
        </p:blipFill>
        <p:spPr>
          <a:xfrm>
            <a:off x="142920" y="2114640"/>
            <a:ext cx="8858160" cy="26287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19810"/>
          <p:cNvSpPr/>
          <p:nvPr/>
        </p:nvSpPr>
        <p:spPr>
          <a:xfrm>
            <a:off x="8317080" y="2133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18785" descr=""/>
          <p:cNvPicPr/>
          <p:nvPr/>
        </p:nvPicPr>
        <p:blipFill>
          <a:blip r:embed="rId1"/>
          <a:stretch/>
        </p:blipFill>
        <p:spPr>
          <a:xfrm>
            <a:off x="104760" y="1305000"/>
            <a:ext cx="8934480" cy="424800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18786"/>
          <p:cNvSpPr/>
          <p:nvPr/>
        </p:nvSpPr>
        <p:spPr>
          <a:xfrm>
            <a:off x="8317080" y="2997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17761" descr=""/>
          <p:cNvPicPr/>
          <p:nvPr/>
        </p:nvPicPr>
        <p:blipFill>
          <a:blip r:embed="rId1"/>
          <a:stretch/>
        </p:blipFill>
        <p:spPr>
          <a:xfrm>
            <a:off x="204840" y="2000160"/>
            <a:ext cx="8734320" cy="28576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7762"/>
          <p:cNvSpPr/>
          <p:nvPr/>
        </p:nvSpPr>
        <p:spPr>
          <a:xfrm>
            <a:off x="8317080" y="2060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7:5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